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14.jpeg" ContentType="image/jpeg"/>
  <Override PartName="/ppt/media/image15.jpeg" ContentType="image/jpeg"/>
  <Override PartName="/ppt/media/wind.wav" ContentType="audio/x-wav"/>
  <Override PartName="/ppt/media/laser.wav" ContentType="audio/x-wav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camera.wav" ContentType="audio/x-wav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CAA0-F0FF-4E64-8EF5-44389522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F7F-443B-4198-A834-4B6789FC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AA2-0537-4592-B3BC-D14E8F66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0E4-13A4-4645-A39A-CF107234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22D3-EEB1-41E4-B6FE-A3C99E0A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6307-4A81-4899-8E03-367C96FE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AF5D-D259-4991-A850-A64BF7A7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4941-AA20-4EDE-A1FC-E9861E67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31F2-325E-41C8-B27F-5B5CEE32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B70E-003C-4DF7-9016-CC232C3A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E19C-B682-4FD2-982B-0A169557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A2C-E423-420C-911A-ECAD3F95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B8C8-D644-4478-9466-12C329FD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CA9D-A060-4FBA-9BA5-E68062D2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430B-82FD-47B9-A718-11ACEC16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7C76-2421-47D0-83FA-A4B5B452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0973-63A1-489E-A57A-01A7AB34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CB7-70E5-4F44-A6D5-550FDDA1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29B-773F-4D63-BC4A-8DA8EBC7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766-79A3-4F79-9D10-2501B0AC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B70-4D1B-4789-9BB7-A2A79BA6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F11-4431-496E-83CF-7F8A541E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FC17-1AEF-4A79-AF4F-A8A486E2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F3E-69DC-41E1-89D0-81F6903D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F4A1-28E7-480B-8DC4-8889F8A555B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0043-921E-435E-98D1-C2178D2B97C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laser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jpeg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audio" Target="../media/cashreg.wav"/><Relationship Id="rId25" Type="http://schemas.openxmlformats.org/officeDocument/2006/relationships/audio" Target="../media/cashreg.wav"/><Relationship Id="rId26" Type="http://schemas.openxmlformats.org/officeDocument/2006/relationships/audio" Target="../media/cashreg.wav"/><Relationship Id="rId27" Type="http://schemas.openxmlformats.org/officeDocument/2006/relationships/audio" Target="../media/cashreg.wav"/><Relationship Id="rId28" Type="http://schemas.openxmlformats.org/officeDocument/2006/relationships/audio" Target="../media/cashreg.wav"/><Relationship Id="rId29" Type="http://schemas.openxmlformats.org/officeDocument/2006/relationships/audio" Target="../media/cashreg.wav"/><Relationship Id="rId30" Type="http://schemas.openxmlformats.org/officeDocument/2006/relationships/audio" Target="../media/cashreg.wav"/><Relationship Id="rId31" Type="http://schemas.openxmlformats.org/officeDocument/2006/relationships/audio" Target="../media/cashreg.wav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6.xml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3880" y="609480"/>
            <a:ext cx="739152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7e9ce8"/>
                </a:solidFill>
                <a:latin typeface="Times New Roman"/>
                <a:ea typeface="黑体"/>
              </a:rPr>
              <a:t>皇 </a:t>
            </a:r>
            <a:r>
              <a:rPr b="1" lang="zh-CN" sz="8000" spc="-1" strike="noStrike">
                <a:solidFill>
                  <a:srgbClr val="009900"/>
                </a:solidFill>
                <a:latin typeface="Times New Roman"/>
                <a:ea typeface="黑体"/>
              </a:rPr>
              <a:t>帝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  <a:ea typeface="黑体"/>
              </a:rPr>
              <a:t>的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黑体"/>
              </a:rPr>
              <a:t>新 </a:t>
            </a:r>
            <a:r>
              <a:rPr b="1" lang="zh-CN" sz="8000" spc="-1" strike="noStrike">
                <a:solidFill>
                  <a:srgbClr val="ff66ff"/>
                </a:solidFill>
                <a:latin typeface="Times New Roman"/>
                <a:ea typeface="黑体"/>
              </a:rPr>
              <a:t>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2819520"/>
            <a:ext cx="8001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2666880"/>
            <a:ext cx="87627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DHT"/>
                <a:ea typeface="FZDHT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FZDHT"/>
                <a:ea typeface="FZDHT"/>
              </a:rPr>
              <a:t>The  new  clothes  of  the empe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79640" y="3716280"/>
            <a:ext cx="4724280" cy="10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8d8ec"/>
                </a:solidFill>
                <a:latin typeface="隶书"/>
                <a:ea typeface="隶书"/>
              </a:rPr>
              <a:t>作  者  </a:t>
            </a:r>
            <a:r>
              <a:rPr b="1" lang="zh-CN" sz="3200" spc="-1" strike="noStrike">
                <a:solidFill>
                  <a:srgbClr val="d8d8ec"/>
                </a:solidFill>
                <a:latin typeface="隶书"/>
                <a:ea typeface="隶书"/>
              </a:rPr>
              <a:t>:  </a:t>
            </a:r>
            <a:r>
              <a:rPr b="1" lang="zh-CN" sz="3200" spc="-1" strike="noStrike">
                <a:solidFill>
                  <a:srgbClr val="d8d8ec"/>
                </a:solidFill>
                <a:latin typeface="隶书"/>
                <a:ea typeface="隶书"/>
              </a:rPr>
              <a:t>安  徒  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4876920"/>
            <a:ext cx="50292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411280" y="189000"/>
            <a:ext cx="48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1700280"/>
            <a:ext cx="8748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51000" y="2635200"/>
            <a:ext cx="19526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夸     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24360" y="2997360"/>
            <a:ext cx="52196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040" y="4325760"/>
            <a:ext cx="4248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昏庸无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穷奢极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11280" y="4579920"/>
            <a:ext cx="865440" cy="289080"/>
          </a:xfrm>
          <a:custGeom>
            <a:avLst/>
            <a:gdLst>
              <a:gd name="textAreaLeft" fmla="*/ 135000 w 865440"/>
              <a:gd name="textAreaRight" fmla="*/ 778680 w 865440"/>
              <a:gd name="textAreaTop" fmla="*/ 71280 h 289080"/>
              <a:gd name="textAreaBottom" fmla="*/ 21780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341"/>
                </a:moveTo>
                <a:lnTo>
                  <a:pt x="17312" y="5341"/>
                </a:lnTo>
                <a:lnTo>
                  <a:pt x="17312" y="0"/>
                </a:lnTo>
                <a:lnTo>
                  <a:pt x="21600" y="10800"/>
                </a:lnTo>
                <a:lnTo>
                  <a:pt x="17312" y="21600"/>
                </a:lnTo>
                <a:lnTo>
                  <a:pt x="17312" y="16259"/>
                </a:lnTo>
                <a:lnTo>
                  <a:pt x="3375" y="16259"/>
                </a:lnTo>
                <a:close/>
              </a:path>
              <a:path w="21600" h="21600">
                <a:moveTo>
                  <a:pt x="0" y="5341"/>
                </a:moveTo>
                <a:lnTo>
                  <a:pt x="675" y="5341"/>
                </a:lnTo>
                <a:lnTo>
                  <a:pt x="675" y="16259"/>
                </a:lnTo>
                <a:lnTo>
                  <a:pt x="0" y="16259"/>
                </a:lnTo>
                <a:close/>
              </a:path>
              <a:path w="21600" h="21600">
                <a:moveTo>
                  <a:pt x="1350" y="5341"/>
                </a:moveTo>
                <a:lnTo>
                  <a:pt x="2700" y="5341"/>
                </a:lnTo>
                <a:lnTo>
                  <a:pt x="2700" y="16259"/>
                </a:lnTo>
                <a:lnTo>
                  <a:pt x="1350" y="1625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64000" y="4572000"/>
            <a:ext cx="38876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为下文受骗埋下</a:t>
            </a:r>
            <a:r>
              <a:rPr b="0" lang="zh-CN" sz="2600" spc="-1" strike="noStrike" u="sng">
                <a:solidFill>
                  <a:srgbClr val="cc3300"/>
                </a:solidFill>
                <a:uFillTx/>
                <a:latin typeface="Times New Roman"/>
                <a:ea typeface="华文行楷"/>
              </a:rPr>
              <a:t>伏笔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877080" y="6093000"/>
            <a:ext cx="2266920" cy="361800"/>
            <a:chOff x="6877080" y="6093000"/>
            <a:chExt cx="2266920" cy="361800"/>
          </a:xfrm>
        </p:grpSpPr>
        <p:sp>
          <p:nvSpPr>
            <p:cNvPr id="272" name="">
              <a:hlinkClick r:id="rId1" action="ppaction://hlinksldjump"/>
            </p:cNvPr>
            <p:cNvSpPr/>
            <p:nvPr/>
          </p:nvSpPr>
          <p:spPr>
            <a:xfrm>
              <a:off x="7524720" y="6093000"/>
              <a:ext cx="1008000" cy="349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返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675640" y="6165720"/>
              <a:ext cx="468360" cy="289080"/>
            </a:xfrm>
            <a:custGeom>
              <a:avLst/>
              <a:gdLst>
                <a:gd name="textAreaLeft" fmla="*/ 62640 w 468360"/>
                <a:gd name="textAreaRight" fmla="*/ 405720 w 468360"/>
                <a:gd name="textAreaTop" fmla="*/ 50400 h 289080"/>
                <a:gd name="textAreaBottom" fmla="*/ 2095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77080" y="6165720"/>
              <a:ext cx="504720" cy="287640"/>
            </a:xfrm>
            <a:custGeom>
              <a:avLst/>
              <a:gdLst>
                <a:gd name="textAreaLeft" fmla="*/ 67320 w 504720"/>
                <a:gd name="textAreaRight" fmla="*/ 437400 w 504720"/>
                <a:gd name="textAreaTop" fmla="*/ 50400 h 287640"/>
                <a:gd name="textAreaBottom" fmla="*/ 20880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50920" y="1093680"/>
            <a:ext cx="8893080" cy="459720"/>
            <a:chOff x="250920" y="1093680"/>
            <a:chExt cx="8893080" cy="459720"/>
          </a:xfrm>
        </p:grpSpPr>
        <p:sp>
          <p:nvSpPr>
            <p:cNvPr id="276" name=""/>
            <p:cNvSpPr/>
            <p:nvPr/>
          </p:nvSpPr>
          <p:spPr>
            <a:xfrm>
              <a:off x="574560" y="1093680"/>
              <a:ext cx="856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7e9ce8"/>
                  </a:solidFill>
                  <a:latin typeface="华文中宋"/>
                  <a:ea typeface="华文中宋"/>
                </a:rPr>
                <a:t>1</a:t>
              </a:r>
              <a:r>
                <a:rPr b="1" lang="zh-CN" sz="2400" spc="-1" strike="noStrike">
                  <a:solidFill>
                    <a:srgbClr val="7e9ce8"/>
                  </a:solidFill>
                  <a:latin typeface="华文中宋"/>
                  <a:ea typeface="华文中宋"/>
                </a:rPr>
                <a:t>、皇帝爱新装爱到了什么程度？文章用哪些副词表示出了这种程度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0920" y="1166400"/>
              <a:ext cx="288720" cy="2890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50920" y="3327480"/>
            <a:ext cx="8789760" cy="423000"/>
            <a:chOff x="250920" y="3327480"/>
            <a:chExt cx="8789760" cy="423000"/>
          </a:xfrm>
        </p:grpSpPr>
        <p:sp>
          <p:nvSpPr>
            <p:cNvPr id="279" name=""/>
            <p:cNvSpPr/>
            <p:nvPr/>
          </p:nvSpPr>
          <p:spPr>
            <a:xfrm>
              <a:off x="471600" y="3327480"/>
              <a:ext cx="8569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3</a:t>
              </a:r>
              <a:r>
                <a:rPr b="1" lang="zh-CN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、皇帝是一国之主，却不理朝政，不关心国家大事，沉溺于“新衣”，这是一个什么样的皇帝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0920" y="3400200"/>
              <a:ext cx="288720" cy="2887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50920" y="2000160"/>
            <a:ext cx="8251560" cy="423000"/>
            <a:chOff x="250920" y="2000160"/>
            <a:chExt cx="8251560" cy="423000"/>
          </a:xfrm>
        </p:grpSpPr>
        <p:sp>
          <p:nvSpPr>
            <p:cNvPr id="282" name=""/>
            <p:cNvSpPr/>
            <p:nvPr/>
          </p:nvSpPr>
          <p:spPr>
            <a:xfrm>
              <a:off x="438120" y="2000160"/>
              <a:ext cx="8064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7e9ce8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2400" spc="-1" strike="noStrike">
                  <a:solidFill>
                    <a:srgbClr val="7e9ce8"/>
                  </a:solidFill>
                  <a:latin typeface="华文中宋"/>
                  <a:ea typeface="华文中宋"/>
                </a:rPr>
                <a:t>、生活中真能达到这种程度吗？这里用了什么修辞手法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0920" y="2000160"/>
              <a:ext cx="288720" cy="2887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 txBox="1"/>
          <p:nvPr/>
        </p:nvSpPr>
        <p:spPr>
          <a:xfrm>
            <a:off x="1692360" y="404640"/>
            <a:ext cx="453708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合作学习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strips dir="l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75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75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7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7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75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755640" y="1700280"/>
            <a:ext cx="69134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因为皇帝喜欢穿新衣，这正投其所好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2276640"/>
            <a:ext cx="7775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7e9ce8"/>
                </a:solidFill>
                <a:latin typeface="华文中宋"/>
                <a:ea typeface="华文中宋"/>
              </a:rPr>
              <a:t>2</a:t>
            </a:r>
            <a:r>
              <a:rPr b="1" lang="zh-CN" sz="2600" spc="-1" strike="noStrike">
                <a:solidFill>
                  <a:srgbClr val="7e9ce8"/>
                </a:solidFill>
                <a:latin typeface="华文中宋"/>
                <a:ea typeface="华文中宋"/>
              </a:rPr>
              <a:t>、他们为什么又说做出的衣服有一种奇怪的特性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4360" y="4149720"/>
            <a:ext cx="82087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7e9ce8"/>
                </a:solidFill>
                <a:latin typeface="华文中宋"/>
                <a:ea typeface="华文中宋"/>
              </a:rPr>
              <a:t>3</a:t>
            </a:r>
            <a:r>
              <a:rPr b="1" lang="zh-CN" sz="2600" spc="-1" strike="noStrike">
                <a:solidFill>
                  <a:srgbClr val="7e9ce8"/>
                </a:solidFill>
                <a:latin typeface="华文中宋"/>
                <a:ea typeface="华文中宋"/>
              </a:rPr>
              <a:t>、衣服有什么奇怪的特性？请在课文上划出原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4360" y="1197000"/>
            <a:ext cx="82087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7e9ce8"/>
                </a:solidFill>
                <a:latin typeface="华文中宋"/>
                <a:ea typeface="华文中宋"/>
              </a:rPr>
              <a:t>1</a:t>
            </a:r>
            <a:r>
              <a:rPr b="1" lang="zh-CN" sz="2600" spc="-1" strike="noStrike">
                <a:solidFill>
                  <a:srgbClr val="7e9ce8"/>
                </a:solidFill>
                <a:latin typeface="华文中宋"/>
                <a:ea typeface="华文中宋"/>
              </a:rPr>
              <a:t>、骗子为什么用织新衣而不用别的手段来骗皇帝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8720" y="3141720"/>
            <a:ext cx="7704000" cy="8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②</a:t>
            </a:r>
            <a:r>
              <a:rPr b="1" lang="zh-CN" sz="2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愚蠢的皇帝肯定愿意用最简单的方法来分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是非，以巩固统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4724280"/>
            <a:ext cx="7704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任何不称职的或者愚蠢的不可救药的人，都看不见这衣服。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2781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大多数人都不愿承认自己的愚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659640" y="6093000"/>
            <a:ext cx="2266920" cy="361800"/>
            <a:chOff x="6659640" y="6093000"/>
            <a:chExt cx="2266920" cy="361800"/>
          </a:xfrm>
        </p:grpSpPr>
        <p:sp>
          <p:nvSpPr>
            <p:cNvPr id="293" name="">
              <a:hlinkClick r:id="rId1" action="ppaction://hlinksldjump"/>
            </p:cNvPr>
            <p:cNvSpPr/>
            <p:nvPr/>
          </p:nvSpPr>
          <p:spPr>
            <a:xfrm>
              <a:off x="7307280" y="6093000"/>
              <a:ext cx="1008000" cy="349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返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458200" y="6165720"/>
              <a:ext cx="468360" cy="289080"/>
            </a:xfrm>
            <a:custGeom>
              <a:avLst/>
              <a:gdLst>
                <a:gd name="textAreaLeft" fmla="*/ 62640 w 468360"/>
                <a:gd name="textAreaRight" fmla="*/ 405720 w 468360"/>
                <a:gd name="textAreaTop" fmla="*/ 50400 h 289080"/>
                <a:gd name="textAreaBottom" fmla="*/ 2095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59640" y="6165720"/>
              <a:ext cx="504720" cy="287640"/>
            </a:xfrm>
            <a:custGeom>
              <a:avLst/>
              <a:gdLst>
                <a:gd name="textAreaLeft" fmla="*/ 67320 w 504720"/>
                <a:gd name="textAreaRight" fmla="*/ 437400 w 504720"/>
                <a:gd name="textAreaTop" fmla="*/ 50400 h 287640"/>
                <a:gd name="textAreaBottom" fmla="*/ 20880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395280" y="1268280"/>
            <a:ext cx="287280" cy="287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2349360"/>
            <a:ext cx="287280" cy="287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5280" y="4221000"/>
            <a:ext cx="287280" cy="287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187280" y="549360"/>
            <a:ext cx="381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彩云"/>
              </a:rPr>
              <a:t>思考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11280" y="836640"/>
            <a:ext cx="80643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7e9ce8"/>
                </a:solidFill>
                <a:latin typeface="华文中宋"/>
                <a:ea typeface="华文中宋"/>
              </a:rPr>
              <a:t>阅读文章第五自然段关于皇帝心理活动的描写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 rot="5400000">
            <a:off x="4958280" y="1961280"/>
            <a:ext cx="2016360" cy="63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2593"/>
                <a:gd name="adj2" fmla="val 1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琥珀"/>
              </a:rPr>
              <a:t>一波三折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302" name=""/>
          <p:cNvSpPr/>
          <p:nvPr/>
        </p:nvSpPr>
        <p:spPr>
          <a:xfrm>
            <a:off x="5076720" y="126828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71640" y="1700280"/>
            <a:ext cx="288720" cy="3311280"/>
          </a:xfrm>
          <a:custGeom>
            <a:avLst/>
            <a:gdLst>
              <a:gd name="textAreaLeft" fmla="*/ 184680 w 288720"/>
              <a:gd name="textAreaRight" fmla="*/ 289080 w 288720"/>
              <a:gd name="textAreaTop" fmla="*/ 86040 h 3311280"/>
              <a:gd name="textAreaBottom" fmla="*/ 322524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95640" y="1484280"/>
            <a:ext cx="597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——“</a:t>
            </a:r>
            <a:r>
              <a:rPr b="0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心里感到不大自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27280" y="2060640"/>
            <a:ext cx="345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皇帝自己其实心里很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5400000">
            <a:off x="1834920" y="1773360"/>
            <a:ext cx="215640" cy="936360"/>
          </a:xfrm>
          <a:custGeom>
            <a:avLst/>
            <a:gdLst>
              <a:gd name="textAreaLeft" fmla="*/ 72000 w 215640"/>
              <a:gd name="textAreaRight" fmla="*/ 184680 w 215640"/>
              <a:gd name="textAreaTop" fmla="*/ 539280 h 936360"/>
              <a:gd name="textAreaBottom" fmla="*/ 80208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5640" y="2492280"/>
            <a:ext cx="6624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——“</a:t>
            </a:r>
            <a:r>
              <a:rPr b="0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相信自己是无需害怕的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834560" y="2708280"/>
            <a:ext cx="216000" cy="936360"/>
          </a:xfrm>
          <a:custGeom>
            <a:avLst/>
            <a:gdLst>
              <a:gd name="textAreaLeft" fmla="*/ 72000 w 216000"/>
              <a:gd name="textAreaRight" fmla="*/ 185040 w 216000"/>
              <a:gd name="textAreaTop" fmla="*/ 539280 h 936360"/>
              <a:gd name="textAreaBottom" fmla="*/ 80208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27280" y="2997360"/>
            <a:ext cx="417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自己给自己壮胆，强作镇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95640" y="3573360"/>
            <a:ext cx="8065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——“</a:t>
            </a:r>
            <a:r>
              <a:rPr b="0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仍然觉得先派一个人……比较妥当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1834560" y="3716280"/>
            <a:ext cx="216000" cy="936360"/>
          </a:xfrm>
          <a:custGeom>
            <a:avLst/>
            <a:gdLst>
              <a:gd name="textAreaLeft" fmla="*/ 72000 w 216000"/>
              <a:gd name="textAreaRight" fmla="*/ 185040 w 216000"/>
              <a:gd name="textAreaTop" fmla="*/ 539280 h 936360"/>
              <a:gd name="textAreaBottom" fmla="*/ 80208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55720" y="4005360"/>
            <a:ext cx="6019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心里还是非常害怕自己看不见，害怕证明自己是不称职或愚蠢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58920" y="4869000"/>
            <a:ext cx="144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华文琥珀"/>
              </a:rPr>
              <a:t>总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60440" y="4827600"/>
            <a:ext cx="7639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这些自相矛盾的心理活动，把皇帝不自信而又心虚，愚蠢而又狡猾的性格特点准确的表达出来了，不仅使人物形象鲜明，而且深化了文章主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32000" y="1557360"/>
            <a:ext cx="9363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一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32000" y="2565360"/>
            <a:ext cx="9363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二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32000" y="3645000"/>
            <a:ext cx="9363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三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740720" y="6381720"/>
            <a:ext cx="1979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Copperplate Gothic Bold"/>
              </a:rPr>
              <a:t>Page  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 rot="342600">
            <a:off x="1258560" y="-100080"/>
            <a:ext cx="352908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方正姚体"/>
              </a:rPr>
              <a:t>探究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89017E-006 C -0.03125 0.06312 -0.06233 0.12647 -0.09532 0.13318 C -0.1283 0.13988 -0.16598 0.03676 -0.19844 0.04023 C -0.23091 0.0437 -0.25764 0.14983 -0.29046 0.15445 C -0.32327 0.15907 -0.36094 0.05826 -0.39532 0.06774 C -0.42969 0.07722 -0.45955 0.19792 -0.49688 0.21156 C -0.53421 0.2252 -0.59879 0.16023 -0.6191 0.15006 E">
                                      <p:cBhvr>
                                        <p:cTn id="381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24000" y="836640"/>
            <a:ext cx="882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e9ce8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7e9ce8"/>
                </a:solidFill>
                <a:latin typeface="华文中宋"/>
                <a:ea typeface="华文中宋"/>
              </a:rPr>
              <a:t>、文章为什么要写皇帝与他的亲信三次察看织布的情景，可否只写其中一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1484280"/>
            <a:ext cx="7345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不可以。那样不足以揭露整个宫廷的腐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4000" y="1916280"/>
            <a:ext cx="698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e9ce8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7e9ce8"/>
                </a:solidFill>
                <a:latin typeface="华文中宋"/>
                <a:ea typeface="华文中宋"/>
              </a:rPr>
              <a:t>、为什么皇帝与他的亲信们都不敢说真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2349360"/>
            <a:ext cx="806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他们或是为了保持自己的皇位或官位，或是害怕招来杀身之祸；都害怕暴露自己的愚蠢、不称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4000" y="3141720"/>
            <a:ext cx="864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e9ce8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7e9ce8"/>
                </a:solidFill>
                <a:latin typeface="华文中宋"/>
                <a:ea typeface="华文中宋"/>
              </a:rPr>
              <a:t>、文中提到老大臣、官员以及皇帝的随员时，用了以下褒义词，“诚实”“有理智”“称职”“善良”“高贵”，特别是多次提到“诚实”，用意是什么？真的是在赞扬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836720" y="429264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华文新魏"/>
                <a:ea typeface="华文新魏"/>
              </a:rPr>
              <a:t>讽           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380360" y="6381360"/>
            <a:ext cx="1979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Copperplate Gothic Bold"/>
              </a:rPr>
              <a:t>Page  th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08000" y="1989000"/>
            <a:ext cx="287280" cy="287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8000" y="907920"/>
            <a:ext cx="287280" cy="287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8000" y="3213000"/>
            <a:ext cx="287280" cy="2872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050920" y="260280"/>
            <a:ext cx="3745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议一议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643280" y="981000"/>
            <a:ext cx="4291200" cy="52275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0" y="1549440"/>
            <a:ext cx="464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最可笑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皇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昏庸无能、爱慕虚荣、愚蠢、虚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最可恨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骗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狡猾伪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最卑鄙者 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大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虚伪愚昧、阿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ē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yú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奉承、自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最可爱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孩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纯洁天真、无私无畏、直言不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934 0.2474 C 0.47622 0.24602 0.47292 0.24463 0.46979 0.24324 C 0.46632 0.24162 0.46458 0.23607 0.46198 0.23261 C 0.45399 0.22197 0.44757 0.20925 0.43976 0.19885 C 0.43837 0.197 0.43646 0.19607 0.4349 0.19446 C 0.42882 0.18752 0.42604 0.18035 0.42066 0.17342 C 0.41927 0.17157 0.41719 0.17087 0.4158 0.16925 C 0.4099 0.16209 0.40417 0.15353 0.39844 0.1459 C 0.39514 0.14151 0.39375 0.1355 0.39045 0.1311 C 0.38854 0.12856 0.38611 0.1274 0.3842 0.12486 C 0.37517 0.11284 0.38802 0.12347 0.37465 0.11214 C 0.37257 0.11052 0.37031 0.10937 0.36823 0.10775 C 0.36493 0.10521 0.35868 0.09943 0.35868 0.09943 C 0.35399 0.08972 0.35243 0.08579 0.34445 0.09295 C 0.33316 0.08301 0.32118 0.07214 0.30799 0.06775 C 0.29479 0.05573 0.31354 0.07145 0.29531 0.06128 C 0.29392 0.06058 0.2934 0.05781 0.29202 0.05711 C 0.28038 0.0511 0.26754 0.05064 0.25556 0.04648 C 0.24445 0.04255 0.2342 0.03538 0.22379 0.0296 C 0.2158 0.02521 0.2066 0.02428 0.19844 0.02128 C 0.1783 0.01388 0.19948 0.0192 0.17934 0.0148 C 0.12153 -0.0104 0.06059 -5.78035E-007 -1.11111E-006 -5.78035E-007 E">
                                      <p:cBhvr>
                                        <p:cTn id="484" dur="2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086 -0.15213 C 0.64722 -0.14473 0.64687 -0.14011 0.64132 -0.13525 C 0.63593 -0.12416 0.63055 -0.11722 0.62222 -0.10982 C 0.61944 -0.10728 0.61267 -0.10566 0.61267 -0.10566 C 0.6026 -0.10682 0.59357 -0.10543 0.58576 -0.11398 C 0.58177 -0.11838 0.57829 -0.12393 0.57465 -0.12878 C 0.57361 -0.13017 0.57152 -0.13317 0.57152 -0.13317 C 0.57309 -0.16716 0.57014 -0.17826 0.58732 -0.20069 C 0.59027 -0.20439 0.5993 -0.20554 0.60329 -0.20716 C 0.61284 -0.20647 0.62222 -0.20624 0.63177 -0.20508 C 0.63402 -0.20485 0.63645 -0.20462 0.63819 -0.20277 C 0.64097 -0.19953 0.64444 -0.19028 0.64444 -0.19028 C 0.64218 -0.1778 0.64461 -0.17664 0.63489 -0.17317 C 0.61389 -0.1452 0.56163 -0.17734 0.53177 -0.18173 C 0.52361 -0.18543 0.51493 -0.18612 0.50642 -0.18797 C 0.46406 -0.18728 0.42048 -0.1963 0.37934 -0.18381 C 0.37326 -0.18196 0.36701 -0.17734 0.36024 -0.17549 C 0.35277 -0.17872 0.35329 -0.1741 0.346 -0.17109 C 0.33854 -0.16462 0.33437 -0.15653 0.32864 -0.14797 C 0.32239 -0.13849 0.3151 -0.13086 0.30954 -0.12046 C 0.30329 -0.1089 0.29739 -0.08924 0.28732 -0.08439 C 0.28264 -0.0719 0.27569 -0.06404 0.26996 -0.05271 C 0.26597 -0.04485 0.26406 -0.03861 0.25885 -0.03167 C 0.25833 -0.02959 0.25816 -0.02705 0.25711 -0.0252 C 0.2559 -0.02265 0.25086 -0.02103 0.25243 -0.01895 C 0.25416 -0.01687 0.25711 -0.0208 0.25885 -0.02312 C 0.26007 -0.02473 0.25555 -0.02173 0.25399 -0.02103 C 0.24444 -0.00184 0.23159 -0.00046 0.21597 0.00209 C 0.14392 0.00139 0.07204 8.61272E-006 -5.55556E-007 8.61272E-006 E">
                                      <p:cBhvr>
                                        <p:cTn id="494" dur="2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173 -0.07167 C 0.69462 -0.06265 0.6875 -0.07028 0.6842 -0.08022 C 0.68281 -0.08439 0.68108 -0.09294 0.68108 -0.09294 C 0.68281 -0.09965 0.68194 -0.10034 0.68733 -0.10358 C 0.69045 -0.10543 0.69687 -0.10774 0.69687 -0.10774 C 0.69844 -0.10704 0.70139 -0.10797 0.70173 -0.10566 C 0.7033 -0.0971 0.69878 -0.08508 0.69531 -0.07814 C 0.68941 -0.07884 0.68333 -0.07791 0.67778 -0.08022 C 0.6691 -0.08369 0.66458 -0.09572 0.65885 -0.10358 C 0.65382 -0.12277 0.65364 -0.13456 0.66996 -0.1415 C 0.67205 -0.1408 0.67448 -0.14126 0.67621 -0.13941 C 0.6809 -0.13433 0.67691 -0.11814 0.67309 -0.11398 C 0.67187 -0.11259 0.66996 -0.11259 0.6684 -0.1119 C 0.64236 -0.11375 0.64687 -0.11005 0.63333 -0.11606 C 0.60781 -0.12762 0.63455 -0.11583 0.6191 -0.12254 C 0.61597 -0.12392 0.60955 -0.1267 0.60955 -0.1267 C 0.60469 -0.13086 0.60243 -0.13502 0.59687 -0.13733 C 0.57726 -0.16346 0.54253 -0.15837 0.51753 -0.16485 C 0.49844 -0.16415 0.47951 -0.16415 0.46042 -0.16277 C 0.44965 -0.16207 0.43993 -0.15213 0.43021 -0.14797 C 0.42864 -0.14658 0.42726 -0.14473 0.42552 -0.14358 C 0.42396 -0.14265 0.42205 -0.14265 0.42066 -0.1415 C 0.41667 -0.13849 0.41319 -0.13433 0.40955 -0.13086 C 0.40764 -0.12901 0.40538 -0.12832 0.4033 -0.1267 C 0.39809 -0.12277 0.39462 -0.1156 0.38889 -0.11398 C 0.3816 -0.11213 0.37656 -0.11005 0.36996 -0.10566 C 0.36562 -0.0971 0.35955 -0.09178 0.35399 -0.08439 C 0.34861 -0.07722 0.34479 -0.06913 0.33819 -0.06335 C 0.33576 -0.05317 0.32917 -0.04624 0.32396 -0.03791 C 0.31805 -0.02866 0.31371 -0.01872 0.30486 -0.01479 C 0.29323 0.00163 0.28125 0.00556 0.2651 0.00856 C 0.15382 0.05804 0.09236 6.99422E-006 -3.05556E-006 6.99422E-006 E">
                                      <p:cBhvr>
                                        <p:cTn id="498" dur="2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2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11280" y="1557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9ce8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7e9ce8"/>
                </a:solidFill>
                <a:latin typeface="华文新魏"/>
                <a:ea typeface="华文新魏"/>
              </a:rPr>
              <a:t>作者写到皇帝光着身子试新衣就已经达到讽刺的目的了，为什么还要在情节上安排游行大典？其用意是什么</a:t>
            </a:r>
            <a:r>
              <a:rPr b="1" lang="zh-CN" sz="2800" spc="-1" strike="noStrike">
                <a:solidFill>
                  <a:srgbClr val="7e9ce8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5640" y="3284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把皇帝的新装和游行大典结合起来，把这出喜剧、闹剧、丑剧推向高潮，让皇帝的丑态暴露在光天化日之下，这样更具有强烈的讽刺意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659640" y="6093000"/>
            <a:ext cx="2266920" cy="361800"/>
            <a:chOff x="6659640" y="6093000"/>
            <a:chExt cx="2266920" cy="361800"/>
          </a:xfrm>
        </p:grpSpPr>
        <p:sp>
          <p:nvSpPr>
            <p:cNvPr id="336" name="">
              <a:hlinkClick r:id="rId1" action="ppaction://hlinksldjump"/>
            </p:cNvPr>
            <p:cNvSpPr/>
            <p:nvPr/>
          </p:nvSpPr>
          <p:spPr>
            <a:xfrm>
              <a:off x="7307280" y="6093000"/>
              <a:ext cx="1008000" cy="349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返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58200" y="6165720"/>
              <a:ext cx="468360" cy="289080"/>
            </a:xfrm>
            <a:custGeom>
              <a:avLst/>
              <a:gdLst>
                <a:gd name="textAreaLeft" fmla="*/ 62640 w 468360"/>
                <a:gd name="textAreaRight" fmla="*/ 405720 w 468360"/>
                <a:gd name="textAreaTop" fmla="*/ 50400 h 289080"/>
                <a:gd name="textAreaBottom" fmla="*/ 2095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59640" y="6165720"/>
              <a:ext cx="504720" cy="287640"/>
            </a:xfrm>
            <a:custGeom>
              <a:avLst/>
              <a:gdLst>
                <a:gd name="textAreaLeft" fmla="*/ 67320 w 504720"/>
                <a:gd name="textAreaRight" fmla="*/ 437400 w 504720"/>
                <a:gd name="textAreaTop" fmla="*/ 50400 h 287640"/>
                <a:gd name="textAreaBottom" fmla="*/ 20880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 txBox="1"/>
          <p:nvPr/>
        </p:nvSpPr>
        <p:spPr>
          <a:xfrm>
            <a:off x="2557440" y="720720"/>
            <a:ext cx="3527280" cy="476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9900"/>
                </a:solidFill>
                <a:latin typeface="华文彩云"/>
              </a:rPr>
              <a:t>想一想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009900"/>
              </a:solidFill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95280" y="1197000"/>
            <a:ext cx="820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9ce8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7e9ce8"/>
                </a:solidFill>
                <a:latin typeface="华文中宋"/>
                <a:ea typeface="华文中宋"/>
              </a:rPr>
              <a:t>、作者为什么让一个孩子最终说出了真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184464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因为只有未涉人世、纯洁天真的儿童，才能童言无忌地直言真实，说出真相，表现了作者对未来世界的希望和信心，也告诉人们要保持天真烂漫的童心，敢于说真话，无私无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5280" y="3789360"/>
            <a:ext cx="84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9ce8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7e9ce8"/>
                </a:solidFill>
                <a:latin typeface="华文中宋"/>
                <a:ea typeface="华文中宋"/>
              </a:rPr>
              <a:t>、皇帝心里有些发抖，却摆出更加骄傲的神气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68360" y="486900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皇帝的表现是为了掩饰其内心的恐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9280" y="1268280"/>
            <a:ext cx="287280" cy="287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9280" y="3933720"/>
            <a:ext cx="287280" cy="2872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26920" y="189000"/>
            <a:ext cx="374364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考考你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429000" y="2514600"/>
            <a:ext cx="2057400" cy="19810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09880" y="281952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3352680"/>
            <a:ext cx="1371600" cy="152640"/>
          </a:xfrm>
          <a:prstGeom prst="leftArrow">
            <a:avLst>
              <a:gd name="adj1" fmla="val 50000"/>
              <a:gd name="adj2" fmla="val 22464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67080" y="4572000"/>
            <a:ext cx="152640" cy="990720"/>
          </a:xfrm>
          <a:prstGeom prst="upArrow">
            <a:avLst>
              <a:gd name="adj1" fmla="val 50000"/>
              <a:gd name="adj2" fmla="val 16226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2971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皇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08360" y="6922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官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0" y="297180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40cb2"/>
                </a:solidFill>
                <a:latin typeface="Times New Roman"/>
              </a:rPr>
              <a:t>百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54100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</a:rPr>
              <a:t>小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62320" y="2819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1676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43600" y="2819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17a3"/>
                </a:solidFill>
                <a:latin typeface="Times New Roman"/>
              </a:rPr>
              <a:t>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95680" y="4800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33720" y="350532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1447920"/>
            <a:ext cx="152280" cy="990360"/>
          </a:xfrm>
          <a:prstGeom prst="upArrow">
            <a:avLst>
              <a:gd name="adj1" fmla="val 50000"/>
              <a:gd name="adj2" fmla="val 16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85040" y="38862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昏庸、愚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857480" y="298080"/>
            <a:ext cx="199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虚伪、自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28800" y="38862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1fd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471fd9"/>
                </a:solidFill>
                <a:latin typeface="Times New Roman"/>
              </a:rPr>
              <a:t>怕被嘲笑、怕被杀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81480" y="5562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天真烂漫、无私无畏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533520" y="2133720"/>
            <a:ext cx="800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Times New Roman"/>
                <a:ea typeface="隶书"/>
              </a:rPr>
              <a:t>        </a:t>
            </a:r>
            <a:r>
              <a:rPr b="1" lang="zh-CN" sz="6000" spc="-1" strike="noStrike">
                <a:solidFill>
                  <a:srgbClr val="ff66ff"/>
                </a:solidFill>
                <a:latin typeface="Times New Roman"/>
                <a:ea typeface="隶书"/>
              </a:rPr>
              <a:t>游行大典完毕，皇帝回宫后，事情将会怎么样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340000" y="476280"/>
            <a:ext cx="424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33cccc"/>
                </a:solidFill>
                <a:latin typeface="黑体"/>
              </a:rPr>
              <a:t>让我们放飞想象的翅膀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33cccc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a1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995640" cy="514692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356000" y="333360"/>
            <a:ext cx="4648320" cy="2022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9ce8"/>
                </a:solidFill>
                <a:latin typeface="Times New Roman"/>
              </a:rPr>
              <a:t>安徒生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1805~1875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19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世纪丹麦文学巨匠，世界著名的童话作家。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他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60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余篇童话在近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150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年中被翻译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40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多种文字，从丹麦传向世界。安徒生生于鞋匠家庭，童年生活穷苦，早期写有诗歌、剧本和长篇小说等，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1835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年开始写童话，著名的童话有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《丑小鸭》、《海的女儿》、《卖火柴的小女孩》、《拇指姑娘》、《皇帝的新装》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走进作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火柴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313080" cy="2089080"/>
          </a:xfrm>
          <a:prstGeom prst="rect">
            <a:avLst/>
          </a:prstGeom>
          <a:ln w="0">
            <a:noFill/>
          </a:ln>
        </p:spPr>
      </p:pic>
      <p:pic>
        <p:nvPicPr>
          <p:cNvPr id="157" name="海的女儿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311280" cy="2232000"/>
          </a:xfrm>
          <a:prstGeom prst="rect">
            <a:avLst/>
          </a:prstGeom>
          <a:ln w="0">
            <a:noFill/>
          </a:ln>
        </p:spPr>
      </p:pic>
      <p:pic>
        <p:nvPicPr>
          <p:cNvPr id="158" name="丑小鸭" descr=""/>
          <p:cNvPicPr/>
          <p:nvPr/>
        </p:nvPicPr>
        <p:blipFill>
          <a:blip r:embed="rId3"/>
          <a:stretch/>
        </p:blipFill>
        <p:spPr>
          <a:xfrm>
            <a:off x="539640" y="3429000"/>
            <a:ext cx="3313080" cy="2449440"/>
          </a:xfrm>
          <a:prstGeom prst="rect">
            <a:avLst/>
          </a:prstGeom>
          <a:ln w="0">
            <a:noFill/>
          </a:ln>
        </p:spPr>
      </p:pic>
      <p:pic>
        <p:nvPicPr>
          <p:cNvPr id="159" name="U529P18T90D43050F1532DT20041130104053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3311640" cy="244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24000" y="0"/>
            <a:ext cx="2376360" cy="1081080"/>
          </a:xfrm>
          <a:prstGeom prst="wedgeEllipseCallout">
            <a:avLst>
              <a:gd name="adj1" fmla="val 81995"/>
              <a:gd name="adj2" fmla="val 7907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卖火柴的小女孩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0"/>
            <a:ext cx="2376360" cy="1081080"/>
          </a:xfrm>
          <a:prstGeom prst="wedgeEllipseCallout">
            <a:avLst>
              <a:gd name="adj1" fmla="val -57013"/>
              <a:gd name="adj2" fmla="val 5954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海的女儿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252360" y="2781360"/>
            <a:ext cx="2376360" cy="1081080"/>
          </a:xfrm>
          <a:prstGeom prst="wedgeEllipseCallout">
            <a:avLst>
              <a:gd name="adj1" fmla="val 81995"/>
              <a:gd name="adj2" fmla="val 7907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丑小鸭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0000" y="3141720"/>
            <a:ext cx="2376360" cy="1081080"/>
          </a:xfrm>
          <a:prstGeom prst="wedgeEllipseCallout">
            <a:avLst>
              <a:gd name="adj1" fmla="val -86472"/>
              <a:gd name="adj2" fmla="val -2210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拇指姑娘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6680" y="1523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6760" y="4191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733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404640"/>
            <a:ext cx="7924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1125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童话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儿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学的一种。这种作品通过丰富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、大胆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夸张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艺术手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来塑造形象，反映生活，对儿童进行思想教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通俗、生动，故事情节往往离奇曲折 ，引人入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童话又往往采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拟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的方法，凡举鸟兽虫鱼，花草树木，整个大自然以及家具、玩具都可赋予生命，注入思想感情，使它们人格化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39000" y="2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关于童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3520" y="8380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注意下边加点字的读音和写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81080"/>
            <a:ext cx="73152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炫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 )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滑稽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陛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)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头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称职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 )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自称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御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 )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赏赐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057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xu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84720" y="1989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j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29718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3048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xi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4114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c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41148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c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5105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y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50292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27432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27432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6576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35640" y="47973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47242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57913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58672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57913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228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19640" y="364500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9144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骇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人听闻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)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9051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使人听了非常吃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多指社会上发生的坏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99072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h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36576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随声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附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 )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37339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h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44956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言语 行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追随别人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多含贬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4920" y="1138320"/>
            <a:ext cx="822960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头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         )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                   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赏赐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         )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         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耀                 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差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勋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         )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爵士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          )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         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听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滑稽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随声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40384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379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5213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379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22860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隶书"/>
              </a:rPr>
              <a:t>正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32767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一字多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480" y="3973680"/>
            <a:ext cx="546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更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更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5159520"/>
            <a:ext cx="117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自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称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03280" y="4094280"/>
            <a:ext cx="716292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ｎｇ，当“改换”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ｎｇ，当“越发”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03280" y="5232240"/>
            <a:ext cx="799632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ｃ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ｎｇ，当“说”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ｃ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ｎ，当“适合”、“配得上”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xuà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1066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1066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6292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ì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1066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xi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ī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523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 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ūn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1981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ju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371600" y="2819520"/>
            <a:ext cx="1728720" cy="459720"/>
            <a:chOff x="1371600" y="2819520"/>
            <a:chExt cx="1728720" cy="459720"/>
          </a:xfrm>
        </p:grpSpPr>
        <p:sp>
          <p:nvSpPr>
            <p:cNvPr id="217" name=""/>
            <p:cNvSpPr/>
            <p:nvPr/>
          </p:nvSpPr>
          <p:spPr>
            <a:xfrm>
              <a:off x="2379600" y="28195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ｈ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1600" y="2819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 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79640" y="981000"/>
            <a:ext cx="5400720" cy="4608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916360" y="270828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e9ce8"/>
                </a:solidFill>
                <a:latin typeface="Arial"/>
                <a:ea typeface="方正舒体"/>
              </a:rPr>
              <a:t>看图片复述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979640" y="981000"/>
            <a:ext cx="5400720" cy="46306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979640" y="981000"/>
            <a:ext cx="5400720" cy="4608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979640" y="981000"/>
            <a:ext cx="5400720" cy="4622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1979640" y="981000"/>
            <a:ext cx="5400720" cy="4645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979640" y="981000"/>
            <a:ext cx="5400720" cy="4613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1979640" y="981000"/>
            <a:ext cx="5400720" cy="4699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1979640" y="981000"/>
            <a:ext cx="5400720" cy="4680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1979640" y="981000"/>
            <a:ext cx="5400720" cy="4656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1979640" y="981000"/>
            <a:ext cx="5400720" cy="4699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1"/>
          <a:stretch/>
        </p:blipFill>
        <p:spPr>
          <a:xfrm>
            <a:off x="1979640" y="981000"/>
            <a:ext cx="5400720" cy="4695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2"/>
          <a:stretch/>
        </p:blipFill>
        <p:spPr>
          <a:xfrm>
            <a:off x="1979640" y="981000"/>
            <a:ext cx="5400720" cy="46656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3"/>
          <a:stretch/>
        </p:blipFill>
        <p:spPr>
          <a:xfrm>
            <a:off x="1979640" y="981000"/>
            <a:ext cx="5400720" cy="4645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4"/>
          <a:stretch/>
        </p:blipFill>
        <p:spPr>
          <a:xfrm>
            <a:off x="1979640" y="981000"/>
            <a:ext cx="5400720" cy="4633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5"/>
          <a:stretch/>
        </p:blipFill>
        <p:spPr>
          <a:xfrm>
            <a:off x="1979640" y="981000"/>
            <a:ext cx="5472000" cy="4673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6"/>
          <a:stretch/>
        </p:blipFill>
        <p:spPr>
          <a:xfrm>
            <a:off x="1979640" y="981000"/>
            <a:ext cx="54720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59280" y="333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琥珀"/>
              </a:rPr>
              <a:t>理清课文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3280" y="1341360"/>
            <a:ext cx="576360" cy="3816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052720" y="1125360"/>
            <a:ext cx="1441440" cy="4319640"/>
            <a:chOff x="2052720" y="1125360"/>
            <a:chExt cx="1441440" cy="4319640"/>
          </a:xfrm>
        </p:grpSpPr>
        <p:sp>
          <p:nvSpPr>
            <p:cNvPr id="239" name=""/>
            <p:cNvSpPr/>
            <p:nvPr/>
          </p:nvSpPr>
          <p:spPr>
            <a:xfrm>
              <a:off x="2052720" y="1125360"/>
              <a:ext cx="1079640" cy="4319640"/>
            </a:xfrm>
            <a:prstGeom prst="downArrow">
              <a:avLst>
                <a:gd name="adj1" fmla="val 50000"/>
                <a:gd name="adj2" fmla="val 100025"/>
              </a:avLst>
            </a:pr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24360" y="206064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Arial"/>
                  <a:ea typeface="华文中宋"/>
                </a:rPr>
                <a:t>开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24360" y="2924280"/>
              <a:ext cx="12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Arial"/>
                  <a:ea typeface="华文中宋"/>
                </a:rPr>
                <a:t>发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24360" y="119700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Arial"/>
                  <a:ea typeface="华文中宋"/>
                </a:rPr>
                <a:t>引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24360" y="3789360"/>
              <a:ext cx="136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Arial"/>
                  <a:ea typeface="华文中宋"/>
                </a:rPr>
                <a:t>高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24360" y="47973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Arial"/>
                  <a:ea typeface="华文中宋"/>
                </a:rPr>
                <a:t>结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657600" y="1219320"/>
            <a:ext cx="4952520" cy="4248000"/>
            <a:chOff x="3657600" y="1219320"/>
            <a:chExt cx="4952520" cy="4248000"/>
          </a:xfrm>
        </p:grpSpPr>
        <p:sp>
          <p:nvSpPr>
            <p:cNvPr id="246" name=""/>
            <p:cNvSpPr/>
            <p:nvPr/>
          </p:nvSpPr>
          <p:spPr>
            <a:xfrm>
              <a:off x="4164120" y="1219320"/>
              <a:ext cx="29196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7e9ce8"/>
                  </a:solidFill>
                  <a:uFillTx/>
                  <a:latin typeface="Arial"/>
                  <a:ea typeface="华文中宋"/>
                  <a:hlinkClick r:id="rId1" action="ppaction://hlinksldjump"/>
                </a:rPr>
                <a:t>皇帝酷</a:t>
              </a:r>
              <a:r>
                <a:rPr b="0" lang="zh-CN" sz="2800" spc="-1" strike="noStrike" u="sng">
                  <a:solidFill>
                    <a:srgbClr val="7e9ce8"/>
                  </a:solidFill>
                  <a:uFillTx/>
                  <a:latin typeface="Arial"/>
                  <a:ea typeface="华文中宋"/>
                  <a:hlinkClick r:id="rId2" action="ppaction://hlinksldjump"/>
                </a:rPr>
                <a:t>爱新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64120" y="2174400"/>
              <a:ext cx="33004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7e9ce8"/>
                  </a:solidFill>
                  <a:uFillTx/>
                  <a:latin typeface="Arial"/>
                  <a:ea typeface="华文中宋"/>
                  <a:hlinkClick r:id="rId3" action="ppaction://hlinksldjump"/>
                </a:rPr>
                <a:t>骗子“</a:t>
              </a:r>
              <a:r>
                <a:rPr b="0" lang="zh-CN" sz="2800" spc="-1" strike="noStrike" u="sng">
                  <a:solidFill>
                    <a:srgbClr val="7e9ce8"/>
                  </a:solidFill>
                  <a:uFillTx/>
                  <a:latin typeface="Arial"/>
                  <a:ea typeface="华文中宋"/>
                  <a:hlinkClick r:id="rId4" action="ppaction://hlinksldjump"/>
                </a:rPr>
                <a:t>做</a:t>
              </a:r>
              <a:r>
                <a:rPr b="0" lang="zh-CN" sz="2800" spc="-1" strike="noStrike" u="sng">
                  <a:solidFill>
                    <a:srgbClr val="7e9ce8"/>
                  </a:solidFill>
                  <a:uFillTx/>
                  <a:latin typeface="Arial"/>
                  <a:ea typeface="华文中宋"/>
                  <a:hlinkClick r:id="rId5" action="ppaction://hlinksldjump"/>
                </a:rPr>
                <a:t>”</a:t>
              </a:r>
              <a:r>
                <a:rPr b="0" lang="zh-CN" sz="2800" spc="-1" strike="noStrike" u="sng">
                  <a:solidFill>
                    <a:srgbClr val="7e9ce8"/>
                  </a:solidFill>
                  <a:uFillTx/>
                  <a:latin typeface="Arial"/>
                  <a:ea typeface="华文中宋"/>
                  <a:hlinkClick r:id="rId6" action="ppaction://hlinksldjump"/>
                </a:rPr>
                <a:t>新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64120" y="2980440"/>
              <a:ext cx="2793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7e9ce8"/>
                  </a:solidFill>
                  <a:uFillTx/>
                  <a:latin typeface="Arial"/>
                  <a:ea typeface="华文中宋"/>
                  <a:hlinkClick r:id="rId7" action="ppaction://hlinksldjump"/>
                </a:rPr>
                <a:t>君臣</a:t>
              </a:r>
              <a:r>
                <a:rPr b="0" lang="zh-CN" sz="2800" spc="-1" strike="noStrike" u="sng">
                  <a:solidFill>
                    <a:srgbClr val="7e9ce8"/>
                  </a:solidFill>
                  <a:uFillTx/>
                  <a:latin typeface="Arial"/>
                  <a:ea typeface="华文中宋"/>
                  <a:hlinkClick r:id="rId8" action="ppaction://hlinksldjump"/>
                </a:rPr>
                <a:t>看新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64120" y="3862440"/>
              <a:ext cx="36838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7e9ce8"/>
                  </a:solidFill>
                  <a:uFillTx/>
                  <a:latin typeface="Arial"/>
                  <a:ea typeface="华文中宋"/>
                  <a:hlinkClick r:id="rId9" action="ppaction://hlinksldjump"/>
                </a:rPr>
                <a:t>游行穿</a:t>
              </a:r>
              <a:r>
                <a:rPr b="0" lang="zh-CN" sz="2800" spc="-1" strike="noStrike" u="sng">
                  <a:solidFill>
                    <a:srgbClr val="7e9ce8"/>
                  </a:solidFill>
                  <a:uFillTx/>
                  <a:latin typeface="Arial"/>
                  <a:ea typeface="华文中宋"/>
                  <a:hlinkClick r:id="rId10" action="ppaction://hlinksldjump"/>
                </a:rPr>
                <a:t>新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57600" y="4890240"/>
              <a:ext cx="49525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e9ce8"/>
                  </a:solidFill>
                  <a:latin typeface="Arial"/>
                  <a:ea typeface="华文中宋"/>
                </a:rPr>
                <a:t>    </a:t>
              </a:r>
              <a:r>
                <a:rPr b="0" lang="zh-CN" sz="2800" spc="-1" strike="noStrike" u="sng">
                  <a:solidFill>
                    <a:srgbClr val="7e9ce8"/>
                  </a:solidFill>
                  <a:uFillTx/>
                  <a:latin typeface="Arial"/>
                  <a:ea typeface="华文中宋"/>
                  <a:hlinkClick r:id="rId11" action="ppaction://hlinksldjump"/>
                </a:rPr>
                <a:t>揭穿</a:t>
              </a:r>
              <a:r>
                <a:rPr b="0" lang="zh-CN" sz="2800" spc="-1" strike="noStrike" u="sng">
                  <a:solidFill>
                    <a:srgbClr val="7e9ce8"/>
                  </a:solidFill>
                  <a:uFillTx/>
                  <a:latin typeface="Arial"/>
                  <a:ea typeface="华文中宋"/>
                  <a:hlinkClick r:id="rId12" action="ppaction://hlinksldjump"/>
                </a:rPr>
                <a:t>假</a:t>
              </a:r>
              <a:r>
                <a:rPr b="0" lang="zh-CN" sz="2800" spc="-1" strike="noStrike" u="sng">
                  <a:solidFill>
                    <a:srgbClr val="7e9ce8"/>
                  </a:solidFill>
                  <a:uFillTx/>
                  <a:latin typeface="Arial"/>
                  <a:ea typeface="华文中宋"/>
                  <a:hlinkClick r:id="rId13" action="ppaction://hlinksldjump"/>
                </a:rPr>
                <a:t>新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203640" y="1484280"/>
            <a:ext cx="720720" cy="3600360"/>
            <a:chOff x="3203640" y="1484280"/>
            <a:chExt cx="720720" cy="3600360"/>
          </a:xfrm>
        </p:grpSpPr>
        <p:sp>
          <p:nvSpPr>
            <p:cNvPr id="252" name=""/>
            <p:cNvSpPr/>
            <p:nvPr/>
          </p:nvSpPr>
          <p:spPr>
            <a:xfrm>
              <a:off x="3203640" y="5013360"/>
              <a:ext cx="720720" cy="71280"/>
            </a:xfrm>
            <a:prstGeom prst="rightArrow">
              <a:avLst>
                <a:gd name="adj1" fmla="val 50000"/>
                <a:gd name="adj2" fmla="val 25277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03640" y="4005360"/>
              <a:ext cx="720720" cy="71280"/>
            </a:xfrm>
            <a:prstGeom prst="rightArrow">
              <a:avLst>
                <a:gd name="adj1" fmla="val 50000"/>
                <a:gd name="adj2" fmla="val 25277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03640" y="3141720"/>
              <a:ext cx="720720" cy="71280"/>
            </a:xfrm>
            <a:prstGeom prst="rightArrow">
              <a:avLst>
                <a:gd name="adj1" fmla="val 50000"/>
                <a:gd name="adj2" fmla="val 25277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03640" y="2349360"/>
              <a:ext cx="720720" cy="71640"/>
            </a:xfrm>
            <a:prstGeom prst="rightArrow">
              <a:avLst>
                <a:gd name="adj1" fmla="val 50000"/>
                <a:gd name="adj2" fmla="val 25150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03640" y="1484280"/>
              <a:ext cx="720720" cy="71640"/>
            </a:xfrm>
            <a:prstGeom prst="rightArrow">
              <a:avLst>
                <a:gd name="adj1" fmla="val 50000"/>
                <a:gd name="adj2" fmla="val 25150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 txBox="1"/>
          <p:nvPr/>
        </p:nvSpPr>
        <p:spPr>
          <a:xfrm rot="5400000">
            <a:off x="-253440" y="2924640"/>
            <a:ext cx="262728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琥珀"/>
              </a:rPr>
              <a:t>皇帝的新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4724280"/>
            <a:ext cx="18716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（线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003640" y="1700280"/>
            <a:ext cx="216000" cy="3168720"/>
            <a:chOff x="5003640" y="1700280"/>
            <a:chExt cx="216000" cy="3168720"/>
          </a:xfrm>
        </p:grpSpPr>
        <p:sp>
          <p:nvSpPr>
            <p:cNvPr id="260" name=""/>
            <p:cNvSpPr/>
            <p:nvPr/>
          </p:nvSpPr>
          <p:spPr>
            <a:xfrm>
              <a:off x="5003640" y="17002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03640" y="2565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03640" y="34290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03640" y="4292640"/>
              <a:ext cx="216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75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14:24:16Z</dcterms:created>
  <dc:creator>lemen</dc:creator>
  <dc:description/>
  <dc:language>en-US</dc:language>
  <cp:lastModifiedBy>微软用户</cp:lastModifiedBy>
  <dcterms:modified xsi:type="dcterms:W3CDTF">2014-12-30T02:45:16Z</dcterms:modified>
  <cp:revision>48</cp:revision>
  <dc:subject/>
  <dc:title>幻灯片 1</dc:title>
</cp:coreProperties>
</file>